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46F3-D25F-457D-9DFF-B8993797167E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8862-B9C3-4847-A9F1-F1E8B9E107A2}" type="slidenum">
              <a:rPr b="0" lang="cy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43A-2D1E-4C38-8337-CA9DC511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20E-E9EC-4C49-91E6-0A6271F9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318-DCE7-4EA7-8613-4D6C36CB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488-3E82-453D-81DC-CA8123B7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5A84-D75C-4319-B4A1-A247703A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430A-EA51-4183-B148-04538E87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110A-E70D-4D31-94C4-06639CFD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A7BF-717D-400C-B3A8-317D346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7CE1-4B5F-4797-9134-5F2DC45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277-AFE0-4A0F-82D3-A59F3EC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5D5F-B54C-43E3-8D71-26A7934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B76-D289-49AA-9DA7-38BA887B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7AA8-F5B1-4D59-8618-89F8B1D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728-5A96-4738-8262-FAFC8B7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63F1-BC2F-4A42-9ADD-4265BFB2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D3F-0834-472B-9B64-8888319A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BD4E-4999-4703-8781-9D8F9839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D1C-822A-4AEE-B836-5B1A390A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A37-97AF-4586-9C78-88939BE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830-74C3-4CF8-B444-C6361D2B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B66-5C28-421F-8246-F3A5F11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8DD-F7BF-4F67-A436-88E4E41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158-B4BA-40E4-B09F-B1D689C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878-6B41-42F2-AD09-F9D5080C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CEC-9AE9-4C4D-BCE4-3F9C049D58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235-749C-4221-9387-6BD2E2ADCC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 1.1.7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43280" y="170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uddsoddi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215880" y="23493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cy-GB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le yn y Farchn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559680" y="2997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iâr o</a:t>
            </a:r>
            <a:r>
              <a:rPr b="1" lang="cy-GB" sz="1800" spc="-1" strike="noStrike">
                <a:solidFill>
                  <a:srgbClr val="ffffff"/>
                </a:solidFill>
                <a:latin typeface="Verdana"/>
              </a:rPr>
              <a:t>’r Farchn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371400" y="36450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wm / Refeni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957840" y="4292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l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348000" y="1700280"/>
            <a:ext cx="19432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987640" y="2349360"/>
            <a:ext cx="2736720" cy="3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348000" y="2997360"/>
            <a:ext cx="25192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3132000" y="3645000"/>
            <a:ext cx="2448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635280" y="4292640"/>
            <a:ext cx="12970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284720" y="2060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428472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4284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428472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5724360" y="1413000"/>
            <a:ext cx="2448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cy-GB" sz="1000" spc="-1" strike="noStrike">
                <a:solidFill>
                  <a:srgbClr val="ffffff"/>
                </a:solidFill>
                <a:latin typeface="Verdana"/>
              </a:rPr>
              <a:t>i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Llafu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Cyfalaf – Ari</a:t>
            </a:r>
            <a:r>
              <a:rPr b="1" lang="cy-GB" sz="1000" spc="-1" strike="noStrike">
                <a:solidFill>
                  <a:srgbClr val="ffffff"/>
                </a:solidFill>
                <a:latin typeface="Verdana"/>
              </a:rPr>
              <a:t>an / Cyfarpa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" spc="-1" strike="noStrike">
                <a:solidFill>
                  <a:srgbClr val="ffffff"/>
                </a:solidFill>
                <a:latin typeface="Verdana"/>
              </a:rPr>
              <a:t>Ams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1403280" y="1989000"/>
            <a:ext cx="1152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elwedd y Cynnyrch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547640" y="19890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2927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5591880" y="3645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124000" y="4292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Os yw B yn fwy nag A = El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258920" y="1989000"/>
            <a:ext cx="2521080" cy="22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258920" y="3068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556000" y="198900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859280" y="1989000"/>
            <a:ext cx="2521080" cy="22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859280" y="3068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156360" y="198900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1258920" y="2133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7164360" y="198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148360" y="3213000"/>
            <a:ext cx="1871640" cy="720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15"/>
          <p:cNvSpPr/>
          <p:nvPr/>
        </p:nvSpPr>
        <p:spPr>
          <a:xfrm rot="16200000">
            <a:off x="1043640" y="270900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1042920" y="436572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el pobl i brynu mw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(Datblygu cynnyrch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4572000" y="4365720"/>
            <a:ext cx="302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el pobl i brynu mw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(Cy</a:t>
            </a:r>
            <a:r>
              <a:rPr b="1" lang="cy-GB" sz="1400" spc="-1" strike="noStrike">
                <a:solidFill>
                  <a:srgbClr val="ffffff"/>
                </a:solidFill>
                <a:latin typeface="Verdana"/>
              </a:rPr>
              <a:t>nyddu marchnadoedd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619280" y="155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atrics y Boston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195640" y="2060640"/>
            <a:ext cx="5040360" cy="3600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4788000" y="2060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2195640" y="386064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771640" y="27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êr y Dyfod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1964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lant Trafferth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55600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usnesau Cys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5435640" y="450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usnesau Meir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4572000" y="3068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17"/>
          <p:cNvSpPr/>
          <p:nvPr/>
        </p:nvSpPr>
        <p:spPr>
          <a:xfrm rot="5022000">
            <a:off x="5507280" y="3789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18"/>
          <p:cNvSpPr/>
          <p:nvPr/>
        </p:nvSpPr>
        <p:spPr>
          <a:xfrm rot="5400000">
            <a:off x="3275280" y="3789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9"/>
          <p:cNvSpPr/>
          <p:nvPr/>
        </p:nvSpPr>
        <p:spPr>
          <a:xfrm rot="7840800">
            <a:off x="4406040" y="3810600"/>
            <a:ext cx="720720" cy="246240"/>
          </a:xfrm>
          <a:prstGeom prst="rightArrow">
            <a:avLst>
              <a:gd name="adj1" fmla="val 50000"/>
              <a:gd name="adj2" fmla="val 7317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4500720" y="4653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572000" y="27082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2556000" y="2133720"/>
            <a:ext cx="0" cy="3166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2556000" y="5300640"/>
            <a:ext cx="45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270036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Freeform 12"/>
          <p:cNvSpPr/>
          <p:nvPr/>
        </p:nvSpPr>
        <p:spPr>
          <a:xfrm>
            <a:off x="435600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Freeform 13"/>
          <p:cNvSpPr/>
          <p:nvPr/>
        </p:nvSpPr>
        <p:spPr>
          <a:xfrm>
            <a:off x="3780000" y="2276640"/>
            <a:ext cx="1726920" cy="26650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3419640" y="220500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1332000" y="45813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Cyflwy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1979640" y="314172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200" spc="-1" strike="noStrike">
                <a:solidFill>
                  <a:srgbClr val="0000ff"/>
                </a:solidFill>
                <a:latin typeface="Verdana"/>
              </a:rPr>
              <a:t>Marchnad a</a:t>
            </a: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eddfe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1979640" y="2421000"/>
            <a:ext cx="18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Ma</a:t>
            </a:r>
            <a:r>
              <a:rPr b="1" lang="cy-GB" sz="1200" spc="-1" strike="noStrike">
                <a:solidFill>
                  <a:srgbClr val="0000ff"/>
                </a:solidFill>
                <a:latin typeface="Verdana"/>
              </a:rPr>
              <a:t>rchnad la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3510360" y="249228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Verdana"/>
              </a:rPr>
              <a:t>Marc</a:t>
            </a:r>
            <a:r>
              <a:rPr b="1" lang="cy-GB" sz="1200" spc="-1" strike="noStrike">
                <a:solidFill>
                  <a:srgbClr val="0000ff"/>
                </a:solidFill>
                <a:latin typeface="Verdana"/>
              </a:rPr>
              <a:t>hnad yn dirywi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3780000" y="2781360"/>
            <a:ext cx="215640" cy="718920"/>
          </a:xfrm>
          <a:prstGeom prst="downArrow">
            <a:avLst>
              <a:gd name="adj1" fmla="val 50000"/>
              <a:gd name="adj2" fmla="val 8334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Freeform 20"/>
          <p:cNvSpPr/>
          <p:nvPr/>
        </p:nvSpPr>
        <p:spPr>
          <a:xfrm>
            <a:off x="3276720" y="2276640"/>
            <a:ext cx="1726920" cy="26650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Freeform 21"/>
          <p:cNvSpPr/>
          <p:nvPr/>
        </p:nvSpPr>
        <p:spPr>
          <a:xfrm>
            <a:off x="485928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Freeform 22"/>
          <p:cNvSpPr/>
          <p:nvPr/>
        </p:nvSpPr>
        <p:spPr>
          <a:xfrm>
            <a:off x="5364000" y="2276640"/>
            <a:ext cx="1727280" cy="2665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665080"/>
              <a:gd name="textAreaBottom" fmla="*/ 2665440 h 2665080"/>
            </a:gdLst>
            <a:ahLst/>
            <a:rect l="textAreaLeft" t="textAreaTop" r="textAreaRight" b="textAreaBottom"/>
            <a:pathLst>
              <a:path w="803" h="1603">
                <a:moveTo>
                  <a:pt x="0" y="1573"/>
                </a:moveTo>
                <a:cubicBezTo>
                  <a:pt x="36" y="1562"/>
                  <a:pt x="69" y="1552"/>
                  <a:pt x="106" y="1544"/>
                </a:cubicBezTo>
                <a:cubicBezTo>
                  <a:pt x="150" y="1514"/>
                  <a:pt x="192" y="1483"/>
                  <a:pt x="221" y="1439"/>
                </a:cubicBezTo>
                <a:cubicBezTo>
                  <a:pt x="224" y="1420"/>
                  <a:pt x="225" y="1400"/>
                  <a:pt x="230" y="1381"/>
                </a:cubicBezTo>
                <a:cubicBezTo>
                  <a:pt x="235" y="1361"/>
                  <a:pt x="250" y="1324"/>
                  <a:pt x="250" y="1324"/>
                </a:cubicBezTo>
                <a:cubicBezTo>
                  <a:pt x="253" y="1305"/>
                  <a:pt x="258" y="1286"/>
                  <a:pt x="259" y="1266"/>
                </a:cubicBezTo>
                <a:cubicBezTo>
                  <a:pt x="273" y="863"/>
                  <a:pt x="256" y="459"/>
                  <a:pt x="278" y="56"/>
                </a:cubicBezTo>
                <a:cubicBezTo>
                  <a:pt x="279" y="46"/>
                  <a:pt x="297" y="50"/>
                  <a:pt x="307" y="47"/>
                </a:cubicBezTo>
                <a:cubicBezTo>
                  <a:pt x="379" y="0"/>
                  <a:pt x="455" y="19"/>
                  <a:pt x="509" y="76"/>
                </a:cubicBezTo>
                <a:cubicBezTo>
                  <a:pt x="519" y="107"/>
                  <a:pt x="537" y="121"/>
                  <a:pt x="547" y="152"/>
                </a:cubicBezTo>
                <a:cubicBezTo>
                  <a:pt x="550" y="283"/>
                  <a:pt x="552" y="415"/>
                  <a:pt x="557" y="546"/>
                </a:cubicBezTo>
                <a:cubicBezTo>
                  <a:pt x="558" y="584"/>
                  <a:pt x="565" y="623"/>
                  <a:pt x="566" y="661"/>
                </a:cubicBezTo>
                <a:cubicBezTo>
                  <a:pt x="582" y="1179"/>
                  <a:pt x="522" y="995"/>
                  <a:pt x="586" y="1180"/>
                </a:cubicBezTo>
                <a:cubicBezTo>
                  <a:pt x="588" y="1243"/>
                  <a:pt x="558" y="1489"/>
                  <a:pt x="653" y="1564"/>
                </a:cubicBezTo>
                <a:cubicBezTo>
                  <a:pt x="675" y="1582"/>
                  <a:pt x="733" y="1586"/>
                  <a:pt x="758" y="1592"/>
                </a:cubicBezTo>
                <a:cubicBezTo>
                  <a:pt x="803" y="1603"/>
                  <a:pt x="773" y="1602"/>
                  <a:pt x="797" y="160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4184280" y="537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Am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68360" y="2205000"/>
            <a:ext cx="2952720" cy="280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1547640" y="29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116000" y="371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826920" y="429264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635280" y="2637000"/>
            <a:ext cx="31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RIS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1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LE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HYRWYDDO    3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YNNYRCH    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916360" y="184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rionglau Marchn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156360" y="342900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 4 Hanf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5ed yw Pob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6012000" y="2637000"/>
            <a:ext cx="504720" cy="2016000"/>
          </a:xfrm>
          <a:custGeom>
            <a:avLst/>
            <a:gdLst>
              <a:gd name="textAreaLeft" fmla="*/ 0 w 504720"/>
              <a:gd name="textAreaRight" fmla="*/ 182160 w 504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Marchn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AutoShape 29"/>
          <p:cNvSpPr/>
          <p:nvPr/>
        </p:nvSpPr>
        <p:spPr>
          <a:xfrm>
            <a:off x="255600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>
            <a:off x="3132000" y="31399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1"/>
          <p:cNvSpPr/>
          <p:nvPr/>
        </p:nvSpPr>
        <p:spPr>
          <a:xfrm>
            <a:off x="2916360" y="3500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32"/>
          <p:cNvSpPr/>
          <p:nvPr/>
        </p:nvSpPr>
        <p:spPr>
          <a:xfrm>
            <a:off x="2771640" y="3932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33"/>
          <p:cNvSpPr/>
          <p:nvPr/>
        </p:nvSpPr>
        <p:spPr>
          <a:xfrm>
            <a:off x="82692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34"/>
          <p:cNvSpPr/>
          <p:nvPr/>
        </p:nvSpPr>
        <p:spPr>
          <a:xfrm>
            <a:off x="1403280" y="31399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35"/>
          <p:cNvSpPr/>
          <p:nvPr/>
        </p:nvSpPr>
        <p:spPr>
          <a:xfrm>
            <a:off x="1187280" y="3500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36"/>
          <p:cNvSpPr/>
          <p:nvPr/>
        </p:nvSpPr>
        <p:spPr>
          <a:xfrm>
            <a:off x="1042920" y="3932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37"/>
          <p:cNvSpPr/>
          <p:nvPr/>
        </p:nvSpPr>
        <p:spPr>
          <a:xfrm>
            <a:off x="435600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38"/>
          <p:cNvSpPr/>
          <p:nvPr/>
        </p:nvSpPr>
        <p:spPr>
          <a:xfrm>
            <a:off x="4932360" y="31399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39"/>
          <p:cNvSpPr/>
          <p:nvPr/>
        </p:nvSpPr>
        <p:spPr>
          <a:xfrm>
            <a:off x="4716360" y="3500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40"/>
          <p:cNvSpPr/>
          <p:nvPr/>
        </p:nvSpPr>
        <p:spPr>
          <a:xfrm>
            <a:off x="4572000" y="3932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AutoShape 41"/>
          <p:cNvSpPr/>
          <p:nvPr/>
        </p:nvSpPr>
        <p:spPr>
          <a:xfrm>
            <a:off x="6084720" y="2637000"/>
            <a:ext cx="1584360" cy="1726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42"/>
          <p:cNvSpPr/>
          <p:nvPr/>
        </p:nvSpPr>
        <p:spPr>
          <a:xfrm>
            <a:off x="6661080" y="31399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43"/>
          <p:cNvSpPr/>
          <p:nvPr/>
        </p:nvSpPr>
        <p:spPr>
          <a:xfrm>
            <a:off x="6445080" y="3500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Line 44"/>
          <p:cNvSpPr/>
          <p:nvPr/>
        </p:nvSpPr>
        <p:spPr>
          <a:xfrm>
            <a:off x="6300720" y="3932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45"/>
          <p:cNvSpPr/>
          <p:nvPr/>
        </p:nvSpPr>
        <p:spPr>
          <a:xfrm>
            <a:off x="147636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46"/>
          <p:cNvSpPr/>
          <p:nvPr/>
        </p:nvSpPr>
        <p:spPr>
          <a:xfrm>
            <a:off x="149328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7"/>
          <p:cNvSpPr/>
          <p:nvPr/>
        </p:nvSpPr>
        <p:spPr>
          <a:xfrm>
            <a:off x="149328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149328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49"/>
          <p:cNvSpPr/>
          <p:nvPr/>
        </p:nvSpPr>
        <p:spPr>
          <a:xfrm>
            <a:off x="7126920" y="1125360"/>
            <a:ext cx="147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RIS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LLE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2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HYRWYDDO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  3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YNNYRCH   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Rectangle 50"/>
          <p:cNvSpPr/>
          <p:nvPr/>
        </p:nvSpPr>
        <p:spPr>
          <a:xfrm>
            <a:off x="322056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02092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52"/>
          <p:cNvSpPr/>
          <p:nvPr/>
        </p:nvSpPr>
        <p:spPr>
          <a:xfrm>
            <a:off x="674964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53"/>
          <p:cNvSpPr/>
          <p:nvPr/>
        </p:nvSpPr>
        <p:spPr>
          <a:xfrm>
            <a:off x="322056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Rectangle 54"/>
          <p:cNvSpPr/>
          <p:nvPr/>
        </p:nvSpPr>
        <p:spPr>
          <a:xfrm>
            <a:off x="502092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674964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56"/>
          <p:cNvSpPr/>
          <p:nvPr/>
        </p:nvSpPr>
        <p:spPr>
          <a:xfrm>
            <a:off x="322056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57"/>
          <p:cNvSpPr/>
          <p:nvPr/>
        </p:nvSpPr>
        <p:spPr>
          <a:xfrm>
            <a:off x="502092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674964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322056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50209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Rectangle 61"/>
          <p:cNvSpPr/>
          <p:nvPr/>
        </p:nvSpPr>
        <p:spPr>
          <a:xfrm>
            <a:off x="674964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62"/>
          <p:cNvSpPr/>
          <p:nvPr/>
        </p:nvSpPr>
        <p:spPr>
          <a:xfrm>
            <a:off x="7020000" y="981000"/>
            <a:ext cx="187308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63"/>
          <p:cNvSpPr/>
          <p:nvPr/>
        </p:nvSpPr>
        <p:spPr>
          <a:xfrm>
            <a:off x="826920" y="501336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4"/>
          <p:cNvSpPr/>
          <p:nvPr/>
        </p:nvSpPr>
        <p:spPr>
          <a:xfrm>
            <a:off x="327672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m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8:31:08Z</dcterms:created>
  <dc:creator>cahs</dc:creator>
  <dc:description/>
  <dc:language>en-US</dc:language>
  <cp:lastModifiedBy>TimData</cp:lastModifiedBy>
  <dcterms:modified xsi:type="dcterms:W3CDTF">2015-05-06T18:17:13Z</dcterms:modified>
  <cp:revision>8</cp:revision>
  <dc:subject/>
  <dc:title>Media Marketing</dc:title>
</cp:coreProperties>
</file>